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29408438" cy="19299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24F-2DF3-4A0C-A2EE-81017A7B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1E5-AF36-43B3-B838-9386AE87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B5D-C545-486F-A748-C74FE446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2D4-5922-4698-A8C2-F911F3AD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61A-0E52-4CC3-92AB-A3F12755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B79-66AC-4C28-BD11-4C5AF4FC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ABD-D500-4DC1-9602-752B4580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C10-B0AA-43D9-ADDB-F2176962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F63-8410-4A61-8D0B-52C2A48C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7DD-43EC-4B13-838F-19BF24AB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790-F072-4B16-BAED-CF5EC0E1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2A8-0121-4A9D-A75A-EFBF070F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50F3-4955-4ED7-97E7-FD1B00A59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ed Ske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243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3353040" cy="244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819520" y="4191120"/>
            <a:ext cx="3030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ed Ske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552680"/>
            <a:ext cx="655308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notated Ske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041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ed Ske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786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576440"/>
            <a:ext cx="6477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7:55:20Z</dcterms:created>
  <dc:creator>New Hartford Central School District</dc:creator>
  <dc:description/>
  <dc:language>en-US</dc:language>
  <cp:lastModifiedBy>New Hartford Central School District</cp:lastModifiedBy>
  <dcterms:modified xsi:type="dcterms:W3CDTF">2010-05-20T16:48:01Z</dcterms:modified>
  <cp:revision>8</cp:revision>
  <dc:subject/>
  <dc:title>Annotated Sketches</dc:title>
</cp:coreProperties>
</file>